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2275-A555-46A0-A212-66104FD3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F54B-B07E-4DFF-B7A1-FA8AB1A5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D7EE-1F4B-4BEE-BFFD-D0F3CB4C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BA87-2A00-40AE-8AC6-969C611C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845B-C35A-4F79-9584-3B087D70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3575-9ACF-4AEF-A8E5-F42FFF7F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6B46-3509-4C45-B607-16325918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4AFE-4CE1-47C0-BFB4-6166D41F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011-04BC-44F8-835D-E367F810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DDA3-5B81-4537-B0DE-B28B079C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839C-EC60-4BC6-9D3C-E502A2BA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5C55-2669-42A9-91B2-44147B1F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5908-50B2-4147-BCA8-B4809314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8811-75E4-441E-94F9-D2E3A93D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B0F8-175E-4799-9EAC-7E059F1B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D437-4645-4979-A786-F654C862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6119-8CC5-4284-802F-E4C45260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9C5E-9408-4F2C-868A-DC93D5FF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498C-07B6-4D0F-B15F-E5E8C2E2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C639-CD3B-4A1E-B324-2432A87E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5A14-EB4C-46C0-BB14-C29658B9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FFCD-85C8-436A-AC8A-19BD756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B846-4DBC-4FF2-BAB8-FB2CD288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F1F7-AC6E-4742-93B7-CBC592ED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4B40-66C2-44CF-A256-0BFDB9B850B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2E4B-315D-46FE-898F-D5B34B41382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10592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3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331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Ще запея аз песен за мила земя -небесен дом тих и блажен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смущава там буря, опасност, бе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ато трае преславният ден! (2)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08000" y="2098080"/>
            <a:ext cx="925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нзи ден виждам аз като в сън отдалеч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светли от бисер стен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амо тъничко було закрива го веч от погледа на очите ми! (2)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блажените днес е приготвил места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еб и за мен наший Спас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Славен Цар на вси царства е Той навсегд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корона Той носи за нас! (2)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ни трепне в радост и блаженство сърце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 грях, нито скръб има т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И със песни на устни, с китара в ръц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е срещнем в небесния храм! (2)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34:12Z</dcterms:modified>
  <cp:revision>68</cp:revision>
  <dc:subject/>
  <dc:title>Slide 1</dc:title>
</cp:coreProperties>
</file>